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E307-A254-4FF2-9068-39427624BC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FD7-035D-4CD4-9646-2AB21339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5B8-CBBC-4297-A5F0-068CF2E3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AF8-EC10-4B55-8FBD-3FA42FA8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7FC-2EE0-4F6D-9BC9-DE63907E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2A5-A4FA-4A50-85A7-9A03E553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7DE-B693-4458-B01B-1977CD19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CB0-8948-4636-8433-078C89B6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CA6-24F9-4553-897A-02DB917B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3F3-F1B7-495B-A5EB-88D49692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48D-C78B-4282-A267-86623BEE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D9E-5BC7-4171-9CE0-2A3521D6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DE9-9DA0-418D-908E-1F4D33FD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3E64-0551-4D93-91DA-C3A21949C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logy 2201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t 3 – 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 6-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tibod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shaped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gnize antigens, bind to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egion recognizes the anit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antibody_colour"/>
          <p:cNvPicPr/>
          <p:nvPr/>
        </p:nvPicPr>
        <p:blipFill>
          <a:blip r:embed="rId1"/>
          <a:stretch/>
        </p:blipFill>
        <p:spPr>
          <a:xfrm>
            <a:off x="152280" y="1649520"/>
            <a:ext cx="43434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an antibody operates/work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75" name="Picture 5" descr="antibody_antigen_complex _final"/>
          <p:cNvPicPr/>
          <p:nvPr/>
        </p:nvPicPr>
        <p:blipFill>
          <a:blip r:embed="rId1"/>
          <a:stretch/>
        </p:blipFill>
        <p:spPr>
          <a:xfrm>
            <a:off x="228600" y="1844640"/>
            <a:ext cx="8534520" cy="369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Pathway of 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52280" y="838080"/>
            <a:ext cx="8991720" cy="5724720"/>
            <a:chOff x="152280" y="838080"/>
            <a:chExt cx="8991720" cy="5724720"/>
          </a:xfrm>
        </p:grpSpPr>
        <p:pic>
          <p:nvPicPr>
            <p:cNvPr id="79" name="Picture 4" descr="antigens_samples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16621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5"/>
            <p:cNvSpPr/>
            <p:nvPr/>
          </p:nvSpPr>
          <p:spPr>
            <a:xfrm rot="2021400">
              <a:off x="1905120" y="182880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macrophage"/>
            <p:cNvPicPr/>
            <p:nvPr/>
          </p:nvPicPr>
          <p:blipFill>
            <a:blip r:embed="rId2"/>
            <a:stretch/>
          </p:blipFill>
          <p:spPr>
            <a:xfrm>
              <a:off x="2895480" y="2286000"/>
              <a:ext cx="21337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7"/>
            <p:cNvSpPr/>
            <p:nvPr/>
          </p:nvSpPr>
          <p:spPr>
            <a:xfrm rot="2088000">
              <a:off x="5181120" y="396216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" descr="macrophage+helperTcell"/>
            <p:cNvPicPr/>
            <p:nvPr/>
          </p:nvPicPr>
          <p:blipFill>
            <a:blip r:embed="rId3"/>
            <a:stretch/>
          </p:blipFill>
          <p:spPr>
            <a:xfrm>
              <a:off x="5486400" y="4830840"/>
              <a:ext cx="36576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152280" y="4876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438280" y="15238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 eaten by Macroph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518148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isplays portion of Pathogen on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2590920" y="58672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elper-T cell recognizes Pathog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2438280" y="1219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5181480" y="24382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4343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6"/>
          <p:cNvGrpSpPr/>
          <p:nvPr/>
        </p:nvGrpSpPr>
        <p:grpSpPr>
          <a:xfrm>
            <a:off x="228600" y="0"/>
            <a:ext cx="8483760" cy="6859440"/>
            <a:chOff x="228600" y="0"/>
            <a:chExt cx="8483760" cy="6859440"/>
          </a:xfrm>
        </p:grpSpPr>
        <p:pic>
          <p:nvPicPr>
            <p:cNvPr id="92" name="Picture 4" descr="activ_helper_T_cell"/>
            <p:cNvPicPr/>
            <p:nvPr/>
          </p:nvPicPr>
          <p:blipFill>
            <a:blip r:embed="rId1"/>
            <a:stretch/>
          </p:blipFill>
          <p:spPr>
            <a:xfrm>
              <a:off x="3200400" y="0"/>
              <a:ext cx="1981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5"/>
            <p:cNvSpPr/>
            <p:nvPr/>
          </p:nvSpPr>
          <p:spPr>
            <a:xfrm rot="2260200">
              <a:off x="4571640" y="182844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8301600">
              <a:off x="2057040" y="1828440"/>
              <a:ext cx="1333440" cy="177840"/>
            </a:xfrm>
            <a:prstGeom prst="rightArrow">
              <a:avLst>
                <a:gd name="adj1" fmla="val 50000"/>
                <a:gd name="adj2" fmla="val 187449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410080" y="1371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B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600" y="1447920"/>
              <a:ext cx="2819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 Cytotox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9" descr="B-cell_crop"/>
            <p:cNvPicPr/>
            <p:nvPr/>
          </p:nvPicPr>
          <p:blipFill>
            <a:blip r:embed="rId2"/>
            <a:stretch/>
          </p:blipFill>
          <p:spPr>
            <a:xfrm>
              <a:off x="6172200" y="182880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T-cell death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killer T-Cell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1605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2"/>
            <p:cNvSpPr/>
            <p:nvPr/>
          </p:nvSpPr>
          <p:spPr>
            <a:xfrm>
              <a:off x="1371600" y="4038480"/>
              <a:ext cx="152280" cy="762120"/>
            </a:xfrm>
            <a:prstGeom prst="downArrow">
              <a:avLst>
                <a:gd name="adj1" fmla="val 50000"/>
                <a:gd name="adj2" fmla="val 12511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4"/>
            <p:cNvSpPr/>
            <p:nvPr/>
          </p:nvSpPr>
          <p:spPr>
            <a:xfrm rot="19292400">
              <a:off x="2324160" y="3570120"/>
              <a:ext cx="380880" cy="609840"/>
            </a:xfrm>
            <a:prstGeom prst="downArrow">
              <a:avLst>
                <a:gd name="adj1" fmla="val 31250"/>
                <a:gd name="adj2" fmla="val 3273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killer T-Cell"/>
            <p:cNvPicPr/>
            <p:nvPr/>
          </p:nvPicPr>
          <p:blipFill>
            <a:blip r:embed="rId5"/>
            <a:stretch/>
          </p:blipFill>
          <p:spPr>
            <a:xfrm>
              <a:off x="2514600" y="3886200"/>
              <a:ext cx="1604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 rot="1975200">
              <a:off x="6149520" y="333684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7"/>
            <p:cNvSpPr/>
            <p:nvPr/>
          </p:nvSpPr>
          <p:spPr>
            <a:xfrm rot="20688000">
              <a:off x="7467480" y="33526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B-cell_crop"/>
            <p:cNvPicPr/>
            <p:nvPr/>
          </p:nvPicPr>
          <p:blipFill>
            <a:blip r:embed="rId6"/>
            <a:stretch/>
          </p:blipFill>
          <p:spPr>
            <a:xfrm>
              <a:off x="5029200" y="396252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lasmacell"/>
            <p:cNvPicPr/>
            <p:nvPr/>
          </p:nvPicPr>
          <p:blipFill>
            <a:blip r:embed="rId7"/>
            <a:stretch/>
          </p:blipFill>
          <p:spPr>
            <a:xfrm>
              <a:off x="7238880" y="3809880"/>
              <a:ext cx="1473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0"/>
            <p:cNvSpPr/>
            <p:nvPr/>
          </p:nvSpPr>
          <p:spPr>
            <a:xfrm>
              <a:off x="4952880" y="5486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B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438280" y="56386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Arial"/>
                </a:rPr>
                <a:t>Memory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28600" y="6491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Kills Infec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7848720" y="5486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4" descr="antibodies_immuneresponse"/>
            <p:cNvPicPr/>
            <p:nvPr/>
          </p:nvPicPr>
          <p:blipFill>
            <a:blip r:embed="rId8"/>
            <a:stretch/>
          </p:blipFill>
          <p:spPr>
            <a:xfrm rot="16200000">
              <a:off x="7582320" y="5810400"/>
              <a:ext cx="932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5"/>
            <p:cNvSpPr/>
            <p:nvPr/>
          </p:nvSpPr>
          <p:spPr>
            <a:xfrm>
              <a:off x="5789880" y="62485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ibodies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ellular Immunity .vs. Antibody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572000" y="9907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990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llular Immunity                                 Antibody or Humoral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Explained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Summar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0" y="1527840"/>
            <a:ext cx="9143280" cy="4435560"/>
            <a:chOff x="0" y="1527840"/>
            <a:chExt cx="9143280" cy="4435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644800" y="540792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6" name="_s1029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5645160" y="474264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8" name="_s1030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409520" y="3471120"/>
              <a:ext cx="222840" cy="121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1" name="_s1031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6224400" y="3500280"/>
              <a:ext cx="222840" cy="115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2" name="_s103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683080" y="3485160"/>
              <a:ext cx="222840" cy="118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_s1033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497960" y="3486240"/>
              <a:ext cx="222840" cy="118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_s1034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5631120" y="2242080"/>
              <a:ext cx="222840" cy="234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9" name="_s1035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275280" y="2228040"/>
              <a:ext cx="222840" cy="237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" name="_s1036"/>
            <p:cNvCxnSpPr>
              <a:stCxn id="138" idx="0"/>
              <a:endCxn id="141" idx="2"/>
            </p:cNvCxnSpPr>
            <p:nvPr/>
          </p:nvCxnSpPr>
          <p:spPr>
            <a:xfrm flipV="1">
              <a:off x="4571640" y="263520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2" name="_s1037"/>
            <p:cNvCxnSpPr>
              <a:stCxn id="141" idx="0"/>
              <a:endCxn id="143" idx="2"/>
            </p:cNvCxnSpPr>
            <p:nvPr/>
          </p:nvCxnSpPr>
          <p:spPr>
            <a:xfrm flipV="1">
              <a:off x="4571640" y="197028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3" name="_s1038"/>
            <p:cNvSpPr/>
            <p:nvPr/>
          </p:nvSpPr>
          <p:spPr>
            <a:xfrm>
              <a:off x="3561120" y="152784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Anti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3561120" y="2193120"/>
              <a:ext cx="202140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312720" y="2858040"/>
              <a:ext cx="2517480" cy="4442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per T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076040" y="3525120"/>
              <a:ext cx="225108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Cytotoxic T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>
              <a:off x="5788800" y="3525120"/>
              <a:ext cx="22507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B 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ls Infected C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236988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5"/>
            <p:cNvSpPr/>
            <p:nvPr/>
          </p:nvSpPr>
          <p:spPr>
            <a:xfrm>
              <a:off x="474012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Plasma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6"/>
            <p:cNvSpPr/>
            <p:nvPr/>
          </p:nvSpPr>
          <p:spPr>
            <a:xfrm>
              <a:off x="711036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B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7"/>
            <p:cNvSpPr/>
            <p:nvPr/>
          </p:nvSpPr>
          <p:spPr>
            <a:xfrm>
              <a:off x="4744800" y="485532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tibod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4686480" y="5520600"/>
              <a:ext cx="21409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Deactivates Antig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2"/>
          <p:cNvSpPr/>
          <p:nvPr/>
        </p:nvSpPr>
        <p:spPr>
          <a:xfrm>
            <a:off x="6019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5638320" y="1371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22860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ellular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617220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ntibody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im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cond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apid response to an invader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it invade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51" name="Picture 8" descr="Prim_sec_immunity_graph"/>
          <p:cNvPicPr/>
          <p:nvPr/>
        </p:nvPicPr>
        <p:blipFill>
          <a:blip r:embed="rId1"/>
          <a:stretch/>
        </p:blipFill>
        <p:spPr>
          <a:xfrm>
            <a:off x="380880" y="85896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ssive .vs. Active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Vacc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jection of a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weakened 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n infectious microbe (pathogen) that causes the body to undergo active immunity (produce antibo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Pass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at is Immunity?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51" name="Picture 4" descr="flu1"/>
          <p:cNvPicPr/>
          <p:nvPr/>
        </p:nvPicPr>
        <p:blipFill>
          <a:blip r:embed="rId1"/>
          <a:stretch/>
        </p:blipFill>
        <p:spPr>
          <a:xfrm>
            <a:off x="87480" y="914400"/>
            <a:ext cx="185580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lu_joke"/>
          <p:cNvPicPr/>
          <p:nvPr/>
        </p:nvPicPr>
        <p:blipFill>
          <a:blip r:embed="rId2"/>
          <a:stretch/>
        </p:blipFill>
        <p:spPr>
          <a:xfrm>
            <a:off x="2209680" y="696960"/>
            <a:ext cx="69343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nd_position_for_vaccination"/>
          <p:cNvPicPr/>
          <p:nvPr/>
        </p:nvPicPr>
        <p:blipFill>
          <a:blip r:embed="rId3"/>
          <a:stretch/>
        </p:blipFill>
        <p:spPr>
          <a:xfrm>
            <a:off x="152280" y="4495680"/>
            <a:ext cx="319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utoimmune Disea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rippling disease of the j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u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blood and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ultiple 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es/Treat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 known cures. Usually treated with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llerg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ormally harmless substance that causes an allergic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ypes of Allergic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ccurs within seconds and normally lasts for about 30 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la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akes longer to react and can last for a much long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at happens during an allergic reaction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llergic reaction antibodies caus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histam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released from certain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ylaxis or anaphylactic sh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eatments for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ework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mmunity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4582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lu"/>
          <p:cNvPicPr/>
          <p:nvPr/>
        </p:nvPicPr>
        <p:blipFill>
          <a:blip r:embed="rId1"/>
          <a:stretch/>
        </p:blipFill>
        <p:spPr>
          <a:xfrm>
            <a:off x="5308560" y="3041640"/>
            <a:ext cx="383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reign Invader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ff5050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thogens"/>
          <p:cNvPicPr/>
          <p:nvPr/>
        </p:nvPicPr>
        <p:blipFill>
          <a:blip r:embed="rId1"/>
          <a:stretch/>
        </p:blipFill>
        <p:spPr>
          <a:xfrm>
            <a:off x="5105520" y="838080"/>
            <a:ext cx="374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rts of the Immune Syst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does the body fight infection/foreign invader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e Body’s THREE lines of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Line of Defense –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rd to penetrate, made of indigestible ker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ars, sw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8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Second Line of Defens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Nonspecific Immune Response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agocytosis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 –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done by Macrop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atural Cell K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flammation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caused by release of Histamine from 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ever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– caused by histamines. The fever (high temp) kills invaders by denaturing their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47242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acrop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phagocytic cell found in the liver, spleen, brain and lungs. T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nflammation"/>
          <p:cNvPicPr/>
          <p:nvPr/>
        </p:nvPicPr>
        <p:blipFill>
          <a:blip r:embed="rId1"/>
          <a:stretch/>
        </p:blipFill>
        <p:spPr>
          <a:xfrm>
            <a:off x="838080" y="1713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involves the crea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Third Line of Defense –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4:12:23Z</dcterms:created>
  <dc:creator>M. Sceviour</dc:creator>
  <dc:description/>
  <dc:language>en-US</dc:language>
  <cp:lastModifiedBy>RomaK</cp:lastModifiedBy>
  <dcterms:modified xsi:type="dcterms:W3CDTF">2015-09-04T10:47:53Z</dcterms:modified>
  <cp:revision>39</cp:revision>
  <dc:subject/>
  <dc:title>Biology 2201</dc:title>
</cp:coreProperties>
</file>